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A5F-F29C-4BF5-B638-007FA74E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A8C-CE06-4E63-AD8C-81D8DED7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F39-00EF-4264-9607-78CD4792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BD4-432B-4703-A3DF-3D5863A7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400-046D-4B7E-A0C0-22CCFA54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C71-CB0F-4E33-BCE9-D197C66E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856-DE8F-48CD-88E3-89784CC5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514-109F-46DF-9368-3A1DC284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077-787D-47EA-A2D1-6A5F3A38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4BC-ED8C-4951-B56F-F025C02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D65-C462-4BF9-8D09-EF14D69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FF1-547B-47F1-A73A-7B5ABAA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34E2-DCE3-4465-9462-E329ECC2151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7 Pán z lásky trón opust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 srdce klope 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už dovoľ 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neho vstúp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cestu ti osvie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nebud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mnote blúd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úst tvojich m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o znej chvál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a prijmi za svojho Krá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obhajcom tvojím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láskavo k tebe sa skláň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d tebou verne bd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, chválu mu ne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prest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úst tvojich m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o znej chvál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a prijmi za svojho Kráľ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z lásky trón opust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pôsob jak spasiť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ie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život svoj polož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hriechy a za viny naš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úst tvojich m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o znej chvál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a prijmi za svojho Krá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nádej pre člove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do hlbín hriec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kles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láska je odve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on za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emä vín nies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úst tvojich m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o znej chvál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a prijmi za svojho Krá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12-15T05:48:12Z</dcterms:modified>
  <cp:revision>37</cp:revision>
  <dc:subject/>
  <dc:title>Je veľký náš Pán, on slávy je Kráľ Nech do všetkých strán  spev vrúcnych znie chvál.</dc:title>
</cp:coreProperties>
</file>